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3F4-6B72-439E-BC70-AC908F09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A2C-443F-461F-B491-A5535DC2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6A1D-9DB8-4E80-ABC9-E189905C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56D-DB06-4CCA-A8FA-084DE09D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EB70-0438-4B31-9432-43C5978C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BA8F-612C-4C4F-8E8D-CB736DA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4138-5623-43B7-A969-DD39D6F6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3671-A967-4918-8B04-77ABDD39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C734-F37A-44B1-B4D7-FD4F1A38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A926-B48B-4108-BC53-DED546FB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84AD-DDAD-4D8C-B945-854023CE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C18-3DB9-4AC5-AFDF-2EF30EC8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41FF-BB91-4333-9D2B-D0494D3E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E177-BBD8-47F4-AC65-E454BDA9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BDAB-6AF6-4AB0-84F3-DD7DC6FB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FECB-0F35-47C2-9418-A45846F2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1AA6-7289-4D5F-BE3D-C02C2DF5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BF075-D94F-40CC-9B10-D637C9FC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C5A19-6729-493B-AC66-38CBCC17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DC4B-36A2-4595-AF5C-5894DF73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A4F5-CDB3-42FE-8E73-C046E218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A3F1-156E-4005-885D-87D496B9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AC30-E025-4E50-85E1-4640A0B4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68DB-467E-4B76-A81C-4B900ADC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F34D-BFFA-4414-A449-5F59030D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AF1A-EDA3-49EB-95E4-67F00A60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3691-CC67-4E86-9960-86B99DB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FAF46-7A50-480F-B468-A02DBA2D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6529-36CA-42EE-8A27-425A6029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A3E3-B8EE-415A-85AE-4460D7FD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F0BE-1A7E-4FD7-BD45-9E42185D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2D57-D969-429F-B2CA-FB208E48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84821-E5B9-4F3A-A180-F4D2443B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CC9-3104-4AAA-BA77-0D3E32E8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C574-2CA0-48FB-B6E7-DBE7992E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13C1-7DDA-4C24-8A1A-61F5050A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3C6C-1303-48AC-A350-A9C37026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6601-6C0E-40E2-A72B-A4B11B89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8550D-E8F4-4E29-87C7-2D14F931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86B5-13B9-4EBF-B8C5-1937CC94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CABA3-C068-40A6-B563-D5EA3924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12366-AE1C-4CBF-83E4-BDC4B8A5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A9AA-B72C-42E5-AA5D-E90E81F1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11AE3-0417-4475-8ACC-987BEFCB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2F5-0014-4159-9291-DE1EB6DD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6E61-0EA3-4F77-A9DF-7901B8E5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412FC-94AE-4DE8-9413-19DE6EB6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79F24-15C1-47F7-B3E6-55955DDB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2100-1E2B-49B1-B03A-EBD3E0A5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DE7F2-3290-47C0-B2D8-6F6D5430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C9378-1875-4FE4-ADAC-4AF4390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A612-07BA-4463-A14A-2A4F36F1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53FD-7F2B-4E2A-A3D6-A34E2EF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620CA-1EC4-48F9-A901-4EC9FA8F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9D0C5-15A4-4379-A4BF-46B0B035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CBA-B799-4278-9B13-5BC549E1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EAC30-F3A8-4EE1-83C1-91B81D8D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B18-2F86-4AC6-867E-521D88E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05B-D22A-400A-A631-A9F4505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B34-2050-4AA2-9704-2317293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A663-93AA-460B-BDE8-D82F861E17B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52F4-7275-49F4-B221-F649B3E2EDA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شكل حر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شكل حر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7" name="مثلث قائم الزاوية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رابط مستقيم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F37C-FD0E-41E1-8DF1-F82AD3DC7BE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C28C-37DF-47A0-A004-36AB4C4C15D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شكل حر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شكل حر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5" name="مثلث قائم الزاوية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رابط مستقيم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8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4DD3-7A07-4B34-9870-4C493B71D852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عنوان فرعي 2"/>
          <p:cNvSpPr/>
          <p:nvPr/>
        </p:nvSpPr>
        <p:spPr>
          <a:xfrm>
            <a:off x="4788000" y="404640"/>
            <a:ext cx="3960720" cy="561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التحلي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الوصف الدقيق لعناصر النظام المكونة له ومميزات كل عنصر على حدى وتحديد دوره بدق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كتحليل الاحتيا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وتحليل الأهدا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وتحليل المادة العلم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000000"/>
                </a:solidFill>
                <a:latin typeface="Lucida Sans Unicode"/>
                <a:ea typeface="PT Bold Heading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643280" y="189000"/>
            <a:ext cx="4254480" cy="6168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cc0000"/>
                </a:solidFill>
                <a:latin typeface="Lucida Sans Unicode"/>
                <a:cs typeface="PT Bold Heading"/>
              </a:rPr>
              <a:t>أولاً : مرحلة التحليل : 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SC_OUHOD"/>
              </a:rPr>
              <a:t>وتشمل العمليات التالية 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احتياج .                         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أهداف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مادة العلمية .                      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متعلمين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mohammad bold art 1"/>
              </a:rPr>
              <a:t>- تحليل البيئة التعليمية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مربع نص 3"/>
          <p:cNvSpPr/>
          <p:nvPr/>
        </p:nvSpPr>
        <p:spPr>
          <a:xfrm>
            <a:off x="468360" y="1252440"/>
            <a:ext cx="388944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 : 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 :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 :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 : 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مربع نص 4"/>
          <p:cNvSpPr/>
          <p:nvPr/>
        </p:nvSpPr>
        <p:spPr>
          <a:xfrm>
            <a:off x="3325680" y="64296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حل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رابط كسهم مستقيم 6"/>
          <p:cNvCxnSpPr/>
          <p:nvPr/>
        </p:nvCxnSpPr>
        <p:spPr>
          <a:xfrm flipH="1" flipV="1">
            <a:off x="2098080" y="899280"/>
            <a:ext cx="150084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مربع نص 7"/>
          <p:cNvSpPr/>
          <p:nvPr/>
        </p:nvSpPr>
        <p:spPr>
          <a:xfrm>
            <a:off x="325440" y="6429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رابط كسهم مستقيم 9"/>
          <p:cNvCxnSpPr/>
          <p:nvPr/>
        </p:nvCxnSpPr>
        <p:spPr>
          <a:xfrm>
            <a:off x="1754280" y="2069640"/>
            <a:ext cx="171504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8" name="Rectangle 9"/>
          <p:cNvSpPr/>
          <p:nvPr/>
        </p:nvSpPr>
        <p:spPr>
          <a:xfrm>
            <a:off x="395280" y="2565360"/>
            <a:ext cx="3962520" cy="47865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ى أن الترقيم هنا للتنظيم فقط ولا يعني يجب البدء بالرقم (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يليه (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) وهكذا بل يمكن البدء من أية عملية مهما كان رقمها طالما ترى ذلك مناسباً وتخدم أغراضك التعليمية أكثر وضمن حدود هذه المرح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851280" y="549360"/>
            <a:ext cx="4896000" cy="54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45720" rIns="4572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00"/>
                </a:solidFill>
                <a:latin typeface="Lucida Sans Unicode"/>
                <a:cs typeface="PT Bold Heading"/>
              </a:rPr>
              <a:t>تحليل الاحتياج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س : ما فائدة تحليل الاحتيا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يقود تحليل الاحتياج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إلى </a:t>
            </a:r>
            <a:r>
              <a:rPr b="0" lang="ar-SA" sz="32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تحديد الاحتياج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ومن ثم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Lucida Sans Unicode"/>
                <a:cs typeface="PT Bold Heading"/>
              </a:rPr>
              <a:t>تعريف المشكل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042920" y="765000"/>
            <a:ext cx="1800360" cy="64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حليل 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"/>
          <p:cNvSpPr/>
          <p:nvPr/>
        </p:nvSpPr>
        <p:spPr>
          <a:xfrm rot="16200000">
            <a:off x="1080000" y="1808640"/>
            <a:ext cx="1584360" cy="79200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يقود إ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042920" y="2997360"/>
            <a:ext cx="18003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حديد 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3"/>
          <p:cNvSpPr/>
          <p:nvPr/>
        </p:nvSpPr>
        <p:spPr>
          <a:xfrm rot="16200000">
            <a:off x="1080000" y="4040640"/>
            <a:ext cx="1584360" cy="792000"/>
          </a:xfrm>
          <a:prstGeom prst="leftArrow">
            <a:avLst>
              <a:gd name="adj1" fmla="val 50000"/>
              <a:gd name="adj2" fmla="val 5001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يقود إ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042920" y="5229360"/>
            <a:ext cx="18003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عريف ال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3492360" y="189000"/>
            <a:ext cx="539928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س : كيف يكون تحديد الاحتياج</a:t>
            </a:r>
            <a:r>
              <a:rPr b="0" lang="ar-SA" sz="4000" spc="-1" strike="noStrike">
                <a:solidFill>
                  <a:srgbClr val="da1f28"/>
                </a:solidFill>
                <a:latin typeface="Lucida Sans Unicode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796000" y="1484280"/>
            <a:ext cx="244944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صف الوضع الراه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6200000">
            <a:off x="6427080" y="2223360"/>
            <a:ext cx="1008000" cy="828720"/>
          </a:xfrm>
          <a:prstGeom prst="leftArrow">
            <a:avLst>
              <a:gd name="adj1" fmla="val 50000"/>
              <a:gd name="adj2" fmla="val 3040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ث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 rot="16200000">
            <a:off x="6535080" y="3951720"/>
            <a:ext cx="934920" cy="755640"/>
          </a:xfrm>
          <a:prstGeom prst="leftArrow">
            <a:avLst>
              <a:gd name="adj1" fmla="val 50000"/>
              <a:gd name="adj2" fmla="val 30931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يقود إ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5867280" y="4797360"/>
            <a:ext cx="2376720" cy="194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احتياج ه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فرق ب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وضع الراه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الوضع المرغ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5796000" y="3141720"/>
            <a:ext cx="244944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وصف الوضع المرغ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/>
          <p:cNvSpPr/>
          <p:nvPr/>
        </p:nvSpPr>
        <p:spPr>
          <a:xfrm>
            <a:off x="324000" y="765000"/>
            <a:ext cx="2842920" cy="5042160"/>
          </a:xfrm>
          <a:prstGeom prst="wedgeRoundRectCallout">
            <a:avLst>
              <a:gd name="adj1" fmla="val -59995"/>
              <a:gd name="adj2" fmla="val -61745"/>
              <a:gd name="adj3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إذ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الفرق بين الوضع الراهن والوضع المرغ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هو ما نسميه بالاحتياج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179280" y="476280"/>
            <a:ext cx="8785440" cy="25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Arial"/>
                <a:cs typeface="PT Bold Heading"/>
              </a:rPr>
              <a:t>مثال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  <a:ea typeface="PT Bold Heading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حدد الاحتياج إذا كان الوضع الراهن والوضع المرغوب ك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وضع الراهن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لا يتقن معظم طلاب الصف الثالث حفظ جدول الضر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وضع المرغوب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يتقن معظم طلاب الصف الثالث حفظ جدول الضر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79280" y="3284640"/>
            <a:ext cx="8785440" cy="143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احتياج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إتقان طلاب الصف الثالث لحفظ جدول الضر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24000" y="189000"/>
            <a:ext cx="856764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س : كيف يمكن أن نصل إلى تعريف للمشكلة</a:t>
            </a:r>
            <a:r>
              <a:rPr b="0" lang="ar-SA" sz="4000" spc="-1" strike="noStrike">
                <a:solidFill>
                  <a:srgbClr val="da1f28"/>
                </a:solidFill>
                <a:latin typeface="Lucida Sans Unicode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7234200" y="1555920"/>
            <a:ext cx="158580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بعد تحدي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6012000" y="1879560"/>
            <a:ext cx="1153800" cy="828720"/>
          </a:xfrm>
          <a:prstGeom prst="leftArrow">
            <a:avLst>
              <a:gd name="adj1" fmla="val 50000"/>
              <a:gd name="adj2" fmla="val 3480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نفكر في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771640" y="1901880"/>
            <a:ext cx="1494000" cy="755640"/>
          </a:xfrm>
          <a:prstGeom prst="leftArrow">
            <a:avLst>
              <a:gd name="adj1" fmla="val 50000"/>
              <a:gd name="adj2" fmla="val 49428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PT Bold Heading"/>
              </a:rPr>
              <a:t>هذا يقود إ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324000" y="1484280"/>
            <a:ext cx="2376360" cy="194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تعريف المشكلة ه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وصول إلى ح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لمعالجة ذل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4324320" y="1484280"/>
            <a:ext cx="1657440" cy="172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ساليب وطرق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معالجة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ذلك الاحتي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2843280" y="3789360"/>
            <a:ext cx="5724360" cy="2374920"/>
          </a:xfrm>
          <a:prstGeom prst="wedgeRoundRectCallout">
            <a:avLst>
              <a:gd name="adj1" fmla="val 59319"/>
              <a:gd name="adj2" fmla="val -60962"/>
              <a:gd name="adj3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إذ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PT Bold Heading"/>
              </a:rPr>
              <a:t>تعريف المشكلة لا يعني الاحتي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PT Bold Heading"/>
              </a:rPr>
              <a:t>وإنما الوصول إلى حل لمعالجة ذلك الاحتيا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179280" y="476280"/>
            <a:ext cx="8785440" cy="25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00"/>
                </a:solidFill>
                <a:latin typeface="Arial"/>
                <a:cs typeface="PT Bold Heading"/>
              </a:rPr>
              <a:t>مثال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  <a:ea typeface="PT Bold Heading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عرف المشكلة إذا كان الوضع الراهن والوضع المرغوب ك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وضع الراهن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لا يتقن معظم طلاب الصف الثالث حفظ جدول الضر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وضع المرغوب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يتقن معظم طلاب الصف الثالث حفظ جدول الضر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179280" y="3284640"/>
            <a:ext cx="8785440" cy="20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الاحتياج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إتقان طلاب الصف الثالث لحفظ جدول الضر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Arial"/>
                <a:cs typeface="PT Bold Heading"/>
              </a:rPr>
              <a:t>تعريف المشكلة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استخدام أساليب وطرق جديدة لإتقان طلاب الصف الثال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لحفظ جدول الضرب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6:59:23Z</dcterms:created>
  <dc:creator>work</dc:creator>
  <dc:description/>
  <dc:language>en-US</dc:language>
  <cp:lastModifiedBy>user2009</cp:lastModifiedBy>
  <dcterms:modified xsi:type="dcterms:W3CDTF">2009-10-05T05:57:42Z</dcterms:modified>
  <cp:revision>60</cp:revision>
  <dc:subject/>
  <dc:title>الشريحة 1</dc:title>
</cp:coreProperties>
</file>